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7994-7DEF-4EFF-B90E-7B4B85B5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CCBA-B1E5-4969-B344-760D81B6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E329-1CAC-456A-A319-12C20263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9916-8F75-4B5E-B27D-D8F9CAF7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B85A-A6D5-4085-81B2-BF19FF1C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6C29-6810-4A79-A8FC-DDC7D2C9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61B4-96CB-49B9-8C81-D8DAAB58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4328-FB47-425A-88AE-553B44F7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57A6-92F2-44CE-80DC-B613F974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19FA-ADFD-4035-A4D5-81F6DD6E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843D-543C-40B0-8D09-2D298435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5DBE-099C-416D-B019-70832378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B088-25F2-4BFB-A1EA-342FECBC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AD47-F4A2-40DF-9E7A-BF069BD1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5389-2959-42B7-905B-56B9DB23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5842-E710-46DD-9F48-C74F7689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C72B-1BD1-4D6C-9DB6-FE7E67D4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7154-5C3D-4DEC-8C43-5D5AE9FF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669A-AD2B-4EC3-ABD3-CCC8EBE9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0C61-C3D4-46DA-B7D4-673E49EB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829E-1D2B-436B-9C96-764194D2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DBAE-ECDF-47AE-A8F8-8F0B7636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936F-AED6-431E-ACB6-454FF063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9598-ECEF-4925-8309-556CF8B5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A298-F884-496D-92DF-B4B38EEE47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1735-B40A-4328-B699-291B62B338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B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w Stu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rope &amp; Middle East S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nch Revolution &amp; Napol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ication &amp; Consolidation of Italy &amp;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toman Empire 1800-19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ern &amp; Northern Europe 1848-19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rial Russia, revolutions, Emergence of Soviet State, 1853-19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diplomacy &amp; the First World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 a&amp; change in the Middle East, 19114-19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war years, 1919-19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SR &amp; eastern Europe, 1924-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cond World War and Post War Western Europe, 1939-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War Middle east, 1945-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&amp; Economic developments1800-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e 2: World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L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ects of the History of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ects of the History of Amer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ects of the History of Europe and the Middle E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ects of the History of Asia and Oce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ggested Ho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-380880" y="2133720"/>
          <a:ext cx="10134360" cy="2922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0880" y="2133720"/>
                    <a:ext cx="10134360" cy="2922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2727" dir="8100000" blurRad="0" rotWithShape="0">
                      <a:srgbClr val="ffffff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- S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Assessment (2.5 Ho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1 - Prescribed Subje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2 - Top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al Investig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- H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Assessment (5 ho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1 - Prescribed Subje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2 - Top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3 - HL O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al Investig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roups of two peruse the Gui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you like, what do you dis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 possible areas of overlap with current curric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required hours to current courses and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ngths and issues with this curric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 1 or 2?  SL or HL?  Which regional Op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an understanding of history as a discipline, including the nature and diversity of its sources, methods and interpret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an understanding of the present through critical reflection upon the p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an understanding of the impact of historical developments at national, regional and international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n awareness of one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wn historical identity through the study of the historical experiences of different cultu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ledge &amp; 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&amp; 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hesis and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Historical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L vs S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L = 240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 = 150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L= SL = Regional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cribed Su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Based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 and flex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L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pecific and in-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al Investi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e 1: Europe &amp; Islamic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cribed Subje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 &amp; rise of Islam c. 500-6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ingdom of Sicily 1130-13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sties and Ru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and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s and war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lectual, artistic and cultural develop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n and th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L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pects of the history of Medieval Europe &amp; the Islamic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e2: World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cribed Subje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acemaking and peacekeeping - international relations, 1918-19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rab Israeli conflict, 1945-197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sm in Crisis, 1976-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e 2: World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th Century World History Top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es, practices, effects of w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cratic states - challenges and respo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s and development of authoritarian and single party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ist and independence movements in Africa and Asia and post 1945 central and eastern European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d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s S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ce mo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 Building &amp; Challe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 Civil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 of Modern nations 1865-19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ericas in Global Affairs 1880-19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xican Revolution 1910-19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eat De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cond World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tical developments 1945-197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ld War and the Ame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vil Rights and Social Mo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o the 21st Century 1980-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6:07:36Z</dcterms:created>
  <dc:creator>David Smith User</dc:creator>
  <dc:description/>
  <dc:language>en-US</dc:language>
  <cp:lastModifiedBy>David Smith User</cp:lastModifiedBy>
  <dcterms:modified xsi:type="dcterms:W3CDTF">2008-02-13T13:31:12Z</dcterms:modified>
  <cp:revision>24</cp:revision>
  <dc:subject/>
  <dc:title>IB History</dc:title>
</cp:coreProperties>
</file>